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C78-625A-4BE1-9A53-76D789C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5B3-F2E5-4A25-BC05-19EEBFC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8E6-F2DF-4A84-B305-36BF4E6E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ED6-9522-4BBB-89B9-FA6F28A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69E-CCAA-4C7F-B0B0-40A5128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378-4717-4338-BB1F-998E8530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899-1044-4AF1-88D6-A945E8C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0CB-EA4B-4B7D-9385-E990B5D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D2B-C0D6-4C83-A746-0DB8E99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595-05A8-41EA-80EC-D441A6FC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B29-5532-4042-9428-65D8469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46F-AC05-495A-A795-9C990C8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3C1-8D3B-43DB-85EF-C52CB7610B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8483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762120" y="7621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alanço das Políticas Públicas operacionalizadas pela CONAB para Sociobiodiver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logo_horizontal -- -- --2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Acesso ao portal do Ministério da Agricultura, Pecuária e Abastecimento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04840" cy="390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34956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352680" y="30492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GPM-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logo_horizontal -- -- --2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Acesso ao portal do Ministério da Agricultura, Pecuária e Abastecimento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2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104840" cy="39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8458200" cy="447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3048120" y="887400"/>
            <a:ext cx="3047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581280" y="45720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GPM-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logo_horizontal -- -- --2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Acesso ao portal do Ministério da Agricultura, Pecuária e Abastecimento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048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87840" y="838080"/>
            <a:ext cx="71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ovos e Comunidades Tradicion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eneficiados em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logo_horizontal -- -- --2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Acesso ao portal do Ministério da Agricultura, Pecuária e Abastecimento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04840" cy="39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5"/>
          <a:stretch/>
        </p:blipFill>
        <p:spPr>
          <a:xfrm>
            <a:off x="1600200" y="4572000"/>
            <a:ext cx="3200400" cy="204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6"/>
          <a:stretch/>
        </p:blipFill>
        <p:spPr>
          <a:xfrm>
            <a:off x="4724280" y="4572000"/>
            <a:ext cx="31244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50:58Z</dcterms:created>
  <dc:creator>ianelli.loureiro</dc:creator>
  <dc:description/>
  <dc:language>en-US</dc:language>
  <cp:lastModifiedBy>Hetel</cp:lastModifiedBy>
  <dcterms:modified xsi:type="dcterms:W3CDTF">2010-03-25T04:24:34Z</dcterms:modified>
  <cp:revision>9</cp:revision>
  <dc:subject/>
  <dc:title>Apresentação do PowerPoint</dc:title>
</cp:coreProperties>
</file>